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58A-838E-45B7-86A4-37EB7AF2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166-9DA4-495C-812A-40DDE61C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BF8-323A-4066-9C50-D09E0242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BC5-3573-4543-AC1C-1E52E3D5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09A8-E162-4D42-ACC8-BE622935A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5225-25AF-487A-A933-E3E318AA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A8A5-20E5-429E-A0A9-48A82A3E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5292-54DF-4134-9515-1D4CCB3C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13D3-91F1-4261-BEB8-5E89F15F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81A3-CB60-43C3-9AA8-04E01DEA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B05B-BA22-45CE-B970-C823AFE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DEC-590C-409E-884C-F6B713D3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17ED-4F02-4322-A618-6DCBF621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3517-DAF1-42CC-90A5-AA705111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8E55-AB4E-4F8A-92C3-B2ED22DB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AF62-97C1-41F4-A5CE-4C11487F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C36C-BB86-4A29-BA27-741BD3E4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0475-F81A-4371-BF90-A7790C61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74B-108F-42DC-B512-4376CC7E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550-F39F-4CA3-8A1C-8D51DC17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C05-203C-488E-889A-E08551B5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4E7-641F-4B05-B814-27CE892D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7A5D-FB6C-4C09-A82A-F625223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B27-34AF-4EC1-AA92-92135E6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D511D-1E02-4C13-92E8-C80FE1CCA27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CDAB5-063A-4EAA-A374-5EE84CC2F6F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4FD3EF-B1F0-43A4-9BA7-5F77A0216C18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B3F68-3397-47DA-A610-EB8546AB9B6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Phyla Cha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Respiration</a:t>
            </a:r>
            <a:br>
              <a:rPr sz="3700"/>
            </a:b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 through sk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ext Placeholder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3962160" cy="5410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267080" y="685800"/>
            <a:ext cx="46227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neli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5" name="Text Placeholder 2" descr=""/>
          <p:cNvPicPr/>
          <p:nvPr/>
        </p:nvPicPr>
        <p:blipFill>
          <a:blip r:embed="rId2"/>
          <a:stretch/>
        </p:blipFill>
        <p:spPr>
          <a:xfrm>
            <a:off x="549360" y="1752480"/>
            <a:ext cx="77565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 u="sng">
                <a:solidFill>
                  <a:srgbClr val="2c7c9f"/>
                </a:solidFill>
                <a:uFillTx/>
                <a:latin typeface="News Gothic MT"/>
              </a:rPr>
              <a:t>Miscellaneous:</a:t>
            </a: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-Symmetry       -Body cavity</a:t>
            </a:r>
            <a:br>
              <a:rPr sz="4100"/>
            </a:b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 -Number of germ cell layers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ilateral symmetr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elom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germ cell lay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Body Support/Movemen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980720"/>
            <a:ext cx="80420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utic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----------------------------------------------------------------------------------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ngitudinal &amp; circular musc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ervous Contro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2209680"/>
            <a:ext cx="8042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all anterior brain with ventral nerve cor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eprodu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2057040"/>
            <a:ext cx="804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xual: most species are hermaphrodites with                 internal fertiliz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iges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520" y="20570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mplete digestive tract with specialized regions (mouth, pharynx, etc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rcul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osed system with dorsal heart &amp; blood vesse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cre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905120"/>
            <a:ext cx="8042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ephridia (2/segment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0:17:18Z</dcterms:created>
  <dc:creator>Keith or Sherri Holmgren</dc:creator>
  <dc:description/>
  <dc:language>en-US</dc:language>
  <cp:lastModifiedBy>NHS NPS</cp:lastModifiedBy>
  <dcterms:modified xsi:type="dcterms:W3CDTF">2012-05-15T14:16:23Z</dcterms:modified>
  <cp:revision>7</cp:revision>
  <dc:subject/>
  <dc:title>Animal Phyla Chart</dc:title>
</cp:coreProperties>
</file>